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808A-D664-4E5E-B8E3-9B75C7D2A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39E5-701B-4D5C-B87E-2C56ABC7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CD14-73E5-45C0-BF61-957BEC7B4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8C92-D746-4CFA-8526-ADA65395C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ECBB-393F-4088-8A27-C1779B33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0CDA-5B5B-404A-9FA1-713C4C93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A57F-9184-4F15-B1A2-6C547BCE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2B3C-1185-4DF2-B042-FC9B7B37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F762-2F25-4D0A-89D4-D4D3F749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874D-8746-48A2-8A88-4228C8FF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D400-4AF9-4C4C-89B2-1713562E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8813-4259-49A3-B465-8878EEE5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A1A2-9EFC-4487-9CAA-6EABB0B26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7691" t="18519" r="14585" b="15037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4:08:23Z</dcterms:created>
  <dc:creator>cpagliaro</dc:creator>
  <dc:description/>
  <dc:language>en-US</dc:language>
  <cp:lastModifiedBy>cpagliaro</cp:lastModifiedBy>
  <dcterms:modified xsi:type="dcterms:W3CDTF">2010-11-10T18:46:25Z</dcterms:modified>
  <cp:revision>2</cp:revision>
  <dc:subject/>
  <dc:title>Slide 1</dc:title>
</cp:coreProperties>
</file>